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F75-08A6-4C34-905E-9CCCBDAD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514-DE73-4219-BACA-1E06A169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EC6-B9C3-44DA-8854-38D3FA75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C52-ADA2-42B3-9DD5-B1709C61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2FB-3B08-453A-AA19-B49606B3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F33-E201-4E4E-9406-013D6439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501-74EF-44B6-AF7D-4FEA705B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656-FE3D-4BEB-978C-415EF12D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979C-FF48-4DEA-ADEB-981F36D9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E1D-5872-4A99-8227-E0B8E33A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75A-0B3A-41CC-93DA-605B7D0D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6CC-BF9D-4D98-998E-E0CD32A4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D774-31B2-4EFF-BE84-247D705B76E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VIRTUAL CLASSR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 –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11 -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our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year we cooperated with Piedmont Middle School from Monroe, 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project was about exchanging snail-post letters between our students who were divided into pairs at the beginning of the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d a possibility to get to know their American pe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learnt about American culture and way of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of them they were the first real letters they receiv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students could improve their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ould realized that their English is good enough to corresp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ject was not time consuming otherwise I could not do it with that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d a lot of fun doing i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fortunately the last American package with letters got los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continue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this pro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xt year – I hope our students will exchange emails or letters individ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what they liked about our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 had great fun wile doing this project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 made friends with children from </a:t>
            </a: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a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untry and </a:t>
            </a: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a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inent”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 could improve English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 could use English in practi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what (in their opinion) should be improved in the next project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fortunately not everything is pos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57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changing larger amount of le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57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orter time of „traveling” of le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57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tting on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57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eting with American friends e.g.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is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gna</cp:lastModifiedBy>
  <dcterms:modified xsi:type="dcterms:W3CDTF">2012-05-25T19:07:07Z</dcterms:modified>
  <cp:revision>11</cp:revision>
  <dc:subject/>
  <dc:title>PowerPoint Presentation</dc:title>
</cp:coreProperties>
</file>